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10160" indent="-430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42440" indent="-43056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87680" indent="-430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20320" indent="-430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20320" indent="-43092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20320" indent="-43092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965160" y="177840"/>
            <a:ext cx="858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Demonstrations are most effective when students have to think about the demonstration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63680" y="1295280"/>
            <a:ext cx="6013080" cy="4508640"/>
            <a:chOff x="463680" y="1295280"/>
            <a:chExt cx="6013080" cy="4508640"/>
          </a:xfrm>
        </p:grpSpPr>
        <p:sp>
          <p:nvSpPr>
            <p:cNvPr id="529" name=""/>
            <p:cNvSpPr/>
            <p:nvPr/>
          </p:nvSpPr>
          <p:spPr>
            <a:xfrm>
              <a:off x="463680" y="1295280"/>
              <a:ext cx="5297040" cy="4508640"/>
            </a:xfrm>
            <a:custGeom>
              <a:avLst/>
              <a:gdLst/>
              <a:ahLst/>
              <a:rect l="l" t="t" r="r" b="b"/>
              <a:pathLst>
                <a:path w="16846" h="17012">
                  <a:moveTo>
                    <a:pt x="9974" y="18235"/>
                  </a:moveTo>
                  <a:cubicBezTo>
                    <a:pt x="10057" y="18165"/>
                    <a:pt x="10353" y="18245"/>
                    <a:pt x="10437" y="18313"/>
                  </a:cubicBezTo>
                  <a:cubicBezTo>
                    <a:pt x="14400" y="21522"/>
                    <a:pt x="15193" y="17139"/>
                    <a:pt x="15193" y="17139"/>
                  </a:cubicBezTo>
                  <a:cubicBezTo>
                    <a:pt x="15193" y="17139"/>
                    <a:pt x="15721" y="16983"/>
                    <a:pt x="15523" y="16904"/>
                  </a:cubicBezTo>
                  <a:cubicBezTo>
                    <a:pt x="14848" y="16638"/>
                    <a:pt x="21600" y="17609"/>
                    <a:pt x="18760" y="11035"/>
                  </a:cubicBezTo>
                  <a:cubicBezTo>
                    <a:pt x="18687" y="10867"/>
                    <a:pt x="18892" y="10174"/>
                    <a:pt x="18892" y="10174"/>
                  </a:cubicBezTo>
                  <a:cubicBezTo>
                    <a:pt x="18892" y="10174"/>
                    <a:pt x="19684" y="5243"/>
                    <a:pt x="15721" y="5478"/>
                  </a:cubicBezTo>
                  <a:cubicBezTo>
                    <a:pt x="15588" y="5486"/>
                    <a:pt x="15259" y="5009"/>
                    <a:pt x="15259" y="5009"/>
                  </a:cubicBezTo>
                  <a:cubicBezTo>
                    <a:pt x="15259" y="5009"/>
                    <a:pt x="13277" y="0"/>
                    <a:pt x="9974" y="4070"/>
                  </a:cubicBezTo>
                  <a:cubicBezTo>
                    <a:pt x="9903" y="4157"/>
                    <a:pt x="9512" y="3991"/>
                    <a:pt x="9512" y="3991"/>
                  </a:cubicBezTo>
                  <a:cubicBezTo>
                    <a:pt x="9512" y="3991"/>
                    <a:pt x="5417" y="2348"/>
                    <a:pt x="5020" y="7122"/>
                  </a:cubicBezTo>
                  <a:cubicBezTo>
                    <a:pt x="5011" y="7238"/>
                    <a:pt x="4888" y="7670"/>
                    <a:pt x="4888" y="7670"/>
                  </a:cubicBezTo>
                  <a:cubicBezTo>
                    <a:pt x="4888" y="7670"/>
                    <a:pt x="0" y="10487"/>
                    <a:pt x="4558" y="14713"/>
                  </a:cubicBezTo>
                  <a:cubicBezTo>
                    <a:pt x="4653" y="14802"/>
                    <a:pt x="4756" y="15339"/>
                    <a:pt x="4756" y="15339"/>
                  </a:cubicBezTo>
                  <a:cubicBezTo>
                    <a:pt x="4756" y="15339"/>
                    <a:pt x="6011" y="21600"/>
                    <a:pt x="9974" y="18235"/>
                  </a:cubicBezTo>
                  <a:close/>
                  <a:moveTo>
                    <a:pt x="9974" y="18235"/>
                  </a:moveTo>
                </a:path>
              </a:pathLst>
            </a:custGeom>
            <a:solidFill>
              <a:srgbClr val="ffffff"/>
            </a:solidFill>
            <a:ln w="127080">
              <a:solidFill>
                <a:srgbClr val="66ffff"/>
              </a:solidFill>
              <a:miter/>
            </a:ln>
            <a:effectLst>
              <a:outerShdw dist="8909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martie CAPS"/>
                  <a:ea typeface="Smartie CAPS"/>
                </a:rPr>
                <a:t>Observe</a:t>
              </a:r>
              <a:endParaRPr b="0" lang="en-US" sz="7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martie CAPS"/>
                  <a:ea typeface="Smartie CAPS"/>
                </a:rPr>
                <a:t>Infer</a:t>
              </a:r>
              <a:endParaRPr b="0" lang="en-US" sz="7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martie CAPS"/>
                  <a:ea typeface="Smartie CAPS"/>
                </a:rPr>
                <a:t>Calculate</a:t>
              </a:r>
              <a:endParaRPr b="0" lang="en-US" sz="7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46360" y="5154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14480">
              <a:solidFill>
                <a:srgbClr val="00ffff"/>
              </a:solidFill>
              <a:miter/>
            </a:ln>
            <a:effectLst>
              <a:outerShdw dist="50911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71840" y="5027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14480">
              <a:solidFill>
                <a:srgbClr val="00ffff"/>
              </a:solidFill>
              <a:miter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314880" y="1320840"/>
            <a:ext cx="5295600" cy="16891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martie CAPS"/>
                <a:ea typeface="Smartie CAPS"/>
              </a:rPr>
              <a:t>Hey, this supports the Nature of Science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003320" y="2160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181480" y="1446120"/>
            <a:ext cx="3746520" cy="2478240"/>
          </a:xfrm>
          <a:custGeom>
            <a:avLst/>
            <a:gdLst/>
            <a:ahLst/>
            <a:rect l="l" t="t" r="r" b="b"/>
            <a:pathLst>
              <a:path w="21600" h="21281">
                <a:moveTo>
                  <a:pt x="21600" y="21600"/>
                </a:moveTo>
                <a:cubicBezTo>
                  <a:pt x="14132" y="9164"/>
                  <a:pt x="4027" y="0"/>
                  <a:pt x="0" y="327"/>
                </a:cubicBezTo>
              </a:path>
            </a:pathLst>
          </a:custGeom>
          <a:noFill/>
          <a:ln w="8892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35080" y="201600"/>
            <a:ext cx="2962080" cy="22226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40040" y="43164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hat is the average velocity of the air as it blows across the top of the toilet paper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552600" y="2806560"/>
            <a:ext cx="9004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I use Google docs to get every student to list at least 3 things we need to know to solve for the air’s velocity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628560" y="4622760"/>
            <a:ext cx="9220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Using the input from Google Docs as a student guide, this question gets partially answered in class and then turned into a homework problem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35080" y="201600"/>
            <a:ext cx="2962080" cy="22226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740040" y="43164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hat is the average velocity of the air as it blows across the top of the toilet paper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552600" y="2806560"/>
            <a:ext cx="9004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Need to know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1085760" y="3403440"/>
            <a:ext cx="8750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69800" indent="-469800">
              <a:lnSpc>
                <a:spcPct val="10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ickness of the she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rea being lif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ifting for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eight being lif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peed of the air under the T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essure of the air under the T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ow many sheets?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851040" y="-851040"/>
            <a:ext cx="8458200" cy="10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851040" y="-851040"/>
            <a:ext cx="8458200" cy="1016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366840" y="260280"/>
            <a:ext cx="2084400" cy="2502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740040" y="43164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hat is the average velocity of the air as it blows across the top of the toilet paper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552600" y="2806560"/>
            <a:ext cx="9004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I use Google docs to get every student to list at least 3 things we need to know to solve for the air’s velocity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628560" y="4622760"/>
            <a:ext cx="9220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Using the input from Google Docs as a student guide, this question gets partially answered in class and then turned into a homework problem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 advTm="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66840" y="260280"/>
            <a:ext cx="2084400" cy="2502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40040" y="43164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hat is the average velocity of the air as it blows across the top of the toilet paper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552600" y="2806560"/>
            <a:ext cx="9004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Need to know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1085760" y="3403440"/>
            <a:ext cx="89661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69800" indent="-469800">
              <a:lnSpc>
                <a:spcPct val="10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ickness of the height between top &amp; botto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rea being lif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ifting for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eight being lif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peed of the air under the b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69800" indent="-469800">
              <a:lnSpc>
                <a:spcPct val="100000"/>
              </a:lnSpc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essure of the air under the b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Bernoulli at VAST.ppt_media/Marvin Blink Black bkgnd-1.mov" descr=""/>
          <p:cNvPicPr/>
          <p:nvPr/>
        </p:nvPicPr>
        <p:blipFill>
          <a:blip r:embed="rId1"/>
          <a:stretch/>
        </p:blipFill>
        <p:spPr>
          <a:xfrm>
            <a:off x="6692760" y="3263760"/>
            <a:ext cx="3175200" cy="44452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04920" y="203040"/>
            <a:ext cx="923292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Split the class up so half is working on one problem and half is working on the the other problem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291960" y="3314880"/>
            <a:ext cx="62866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Tahoma"/>
              </a:rPr>
              <a:t>Then have them finish for homework and present to each other the next day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